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463-3287-425C-8E3E-08CE4692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7FD-5758-476A-8223-33133C59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684-2565-40D8-B8D9-5F7D2625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E6D-7641-444E-84F2-BF4898C3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810-3535-4A06-A458-9DD1FC53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8D62-94A8-4D91-85F4-24C24D8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E932-9AB8-4E13-BEC3-E995116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E5F-E539-4B1B-AE40-9BA6AA0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D6BF-9EB7-4A6F-8387-AA7DD7BA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D5F-9201-41EF-BE9B-DCFAF53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341-EBA7-4FDC-B71A-60BB5EF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32C-72CD-4ED2-A528-38A16FFD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27E-5BC9-476D-BDDB-BA3A272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F6E-3358-4C65-8851-80D3A5F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2CB-FFB7-48E1-BFCE-5F7A086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7C5D-C04B-4750-BEC1-E387D22B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9AA-346E-46EF-87B4-7EEFF2B9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F94E-FED6-4ABE-A38C-F249DC80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8276-A19E-45A9-9336-4276837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10AD-A2B3-410A-BB76-CF22291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2218-C5AC-4A79-8233-7CC0ACB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A7DF-9A43-4D0F-A11C-EF27D30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4DC-A71F-4672-A56D-94FC71EA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519B-D258-44AC-A526-92AEB5E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CB22-4D7E-4FDC-AF1E-B907F18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631C-F200-4E39-9C77-2085F0DE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F106-4389-49F0-887D-82957CF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57F9-05E9-4C80-BB78-066F996A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2F39-AB17-4333-9C4E-2A596096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5557-FBAE-4AA7-8AA0-51AFEE09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2A8-F56E-4E54-BF8C-F97E48B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B31-7A81-42D3-B8F0-291A9DDD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8A5-8F71-4519-BA3D-A7D2CCB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5FF-62B3-41B2-8CCC-8E27C7F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95B-8E61-4A47-BA71-9BC129D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EE5-BE61-4F06-B7CA-6866AB6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2F3-885F-4339-8DA0-3C2B5D5BB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5D1B-23F0-4B64-B16A-929BC9C5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13C-8152-47F3-8AE2-42E1C2CAA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ing Invent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ble Dema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en if seasonal can it be predicted and aligned with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me products can be stored cheaper than offering incen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demand is usually not a serious probl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entory Re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l the inven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away inventory for tax benef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l inventory at discoun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t production rate for next y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ilding to order or specu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oids work in prog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offer a build and hold pl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tch encumbered accou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t deposit or letter of intent to purch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production timelines from realistic sales estimat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nagerial Deci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ffer build and hold instead of disco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how far in advance to produce or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l as a pseudoconsign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ing pipeline inven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derstand the initial stocking of new produ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ventory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Cost Meth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FO (Last In First Ou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O (First In First Ou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rage Cost Meth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dom Us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cost of goods in inventory are summed and averaged to give a cost of goods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real value for this meth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F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Inventory purchased is assigned to cost of goods so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e recent purchases are applied to the inventory val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cost of Go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inventory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profit =higher tax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accurate for real life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F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recent inventory costs become cost of of goods so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lder purchases are assigned to inven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er cost of go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Inventory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Profits = lower tax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y comp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523880"/>
          <a:ext cx="7543800" cy="5015160"/>
        </p:xfrm>
        <a:graphic>
          <a:graphicData uri="http://schemas.openxmlformats.org/drawingml/2006/table">
            <a:tbl>
              <a:tblPr/>
              <a:tblGrid>
                <a:gridCol w="2097360"/>
                <a:gridCol w="1090440"/>
                <a:gridCol w="1085760"/>
                <a:gridCol w="1090800"/>
                <a:gridCol w="1089000"/>
                <a:gridCol w="1090440"/>
              </a:tblGrid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F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1000 @ $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G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ss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ing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CO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ing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nagement Difficul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rd to measure and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value may chan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ject to frau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dden co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cal cou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udulent Inventory Practic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ve higher cost in inventory – sell the cheaper costing product fir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maged goods labeled as work in progr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olete inventory kept at full co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ving inventory and counting tw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s of boxes mislabel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st Inventory Probl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ement buys or produces too much of the wrong merchandise at the wrong pri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s Manager’s Jo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Operation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c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inuous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w material is consist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ttle work in progress (no inventor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what happens if demand fa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what happens if demand ri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finished go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ediate delive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ly controlled raw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Operation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ob-shop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made to or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rt production peri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embly Line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 is based on the produ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Tradeoff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o much inventory me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s are tied u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orage expen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ndling expen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maged inven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ulnerable to thef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Obsolescence (Spoila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nomic Obsolescenc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latile Demand – Greater loss pot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ild to or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vide into components (Integra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 capacity when need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sonal Dema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incentives for early sales (Dating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stomer commi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rehouse filled with your product and not the compet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s storage for your 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s Product hand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tter loan credent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9:59:04Z</dcterms:created>
  <dc:creator>User</dc:creator>
  <dc:description/>
  <dc:language>en-US</dc:language>
  <cp:lastModifiedBy>User</cp:lastModifiedBy>
  <dcterms:modified xsi:type="dcterms:W3CDTF">2011-03-15T12:54:30Z</dcterms:modified>
  <cp:revision>4</cp:revision>
  <dc:subject/>
  <dc:title>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